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5D8-5DC6-4850-93CC-FC677C8F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9F7-55B0-4C55-8DD5-1080C2D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56C-E92D-4134-8D2D-E7894555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B1C-DD67-4977-9CC4-7C56253D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E43-69A5-4ABC-860D-72174C4E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393-1CF2-416B-9BA1-E0975E2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FB0-AA08-4DF5-B9C3-55479C9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EF1-06A1-4240-819B-0AE3C8F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D21-C044-4359-AA58-75D2CE5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A22-E48F-4F89-8060-500414C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F80-7608-421C-BFE3-0B665D2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D8F-7AD5-480F-95B0-38D8C79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CE62-6AB5-4228-A0AA-AD6C787A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288120" cy="1346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3400560" cy="50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860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059280"/>
            <a:ext cx="77724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597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32:31Z</dcterms:created>
  <dc:creator>Graham</dc:creator>
  <dc:description/>
  <dc:language>en-US</dc:language>
  <cp:lastModifiedBy>Graham</cp:lastModifiedBy>
  <dcterms:modified xsi:type="dcterms:W3CDTF">2012-08-08T12:16:12Z</dcterms:modified>
  <cp:revision>3</cp:revision>
  <dc:subject/>
  <dc:title>Slide 1</dc:title>
</cp:coreProperties>
</file>